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A51-EC7C-4DE9-9660-2EADAB20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1B5-7CDE-435D-B6C5-76D1F92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C98-8692-42BC-AF45-BBE86835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0D8-71CE-41C9-8E1C-B9E36AFA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489-7A6C-42C6-882A-614E5948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E13D-7DBC-494C-97C3-692D4B8C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964-1625-482D-A10A-5C01DECE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D75-5750-4B0C-8ED2-BD94ABF3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396-72CE-47A9-8DAB-F273566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E3D-3BA0-46BA-A552-75DAF3A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6654-B1A1-4B79-8F13-1BE5077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F6F-8043-4727-BB77-2E86439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071-CC19-4A9E-A678-5A3F846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368-9185-4834-B2CE-E34095C0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A40-3BD8-46C4-9253-3F9505F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BE96-43F1-4B0D-822D-1A5E0C2B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384D-5890-4809-87EA-81621C9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A76-AB81-4C9A-9E57-5FA2D1D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C74-BF78-483B-90BA-79D0DEED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3CC-AE41-4076-B073-5C8A0EA9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A47-22D6-4FE0-8C3C-A3B4DA6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3B7-788B-4E5E-8B11-AE67C8D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292-CAE8-4835-A24A-C0B4B4B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BF8-5797-4A9F-8EEA-FC36828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AE40-47B1-473E-9E6F-315971C7928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8DE-B2E5-4F04-8572-089C927ABCD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the names of two popular gentlemen, the characte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 C. Doyle’s works?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6019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134680"/>
            <a:ext cx="579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S. Holmes, Dr.Wat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789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17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